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1B7-537E-4E54-86DD-1EE0C4FF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CDDD-2CD3-48E2-929D-8FEF75D3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1A7F0-C9A1-40ED-9EA7-308B70C6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4F9BF-D347-43B4-BB78-57C02E9C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82EFB-0F0D-4496-BB65-7195A8B1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1C04C-0E5D-4932-A262-662C7AC2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30CC5-76DE-4A66-9977-C3DF755C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8B57B-E7FA-4B90-8D01-5659B114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2F418-4CDF-44AF-B2A5-F264ADF2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63D02-443B-4D2D-A600-11927BAD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E7FCD-99CC-43EC-956D-2C6DF82F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5DBC8-85F6-48EB-AF7A-75E25486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7E5-8324-4F5F-8153-8A10266A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1B629-C490-43B1-ACF8-3ACB1BC0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BC9D9-4422-49BE-AB5B-D85C63AA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4C2DF-7A2B-4BBF-AA98-2DCFBF07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EA763-CCB7-4838-9E78-8813D82D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71621-FED1-41BB-B612-38816699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0DC3B-F26C-453B-AA13-8ED8F697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2E4D1-E95D-4FCA-BDDF-491192D0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C02DE-F1EB-4436-BA06-DE11BCD4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50CBD-6263-4C73-A84B-DDC23831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46652-1457-4C80-8EC1-653347E0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0A13-9D4D-4C4A-9EEF-8613891C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FE806-E5EE-4142-BEBA-F6D32094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593FA-C422-406B-8298-6EFDC041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79E7C-D00F-413C-BA43-BD619511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74731-4110-49F9-A59E-CB0DF02F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96654-7A92-450B-9FE4-0B4D5370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CD86F-1D53-4D4B-85DE-055A4C87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B39DD-9A45-4923-8FBD-2ED20DFF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0EC10-1DC6-4D01-97E6-4B5821DD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5E548-1FDF-4E76-A148-DD987858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BD666-3AA5-45E2-B6EE-582A4B2A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1F73-9F4A-4E7B-A23F-577665B3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755C8-D423-4998-8309-A757385C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8AF5C-1758-44BD-9576-D1DCCDA6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5737D-7B58-426A-B318-84DA389C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504E9-BF4D-493E-8D2C-1D55364A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5D913-5C72-4698-967E-EF365730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4F8D9-079A-44A5-AE0F-983B1FD2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2E26F-2522-4A06-B897-1D68F909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FD954-3E09-4CB3-8FC0-9D2B9658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752C8-5F61-4F0B-9184-6AF8C206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E714E-D3F8-482B-BB00-20DA525D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EC41-3BBC-4BF5-96DF-8A4831A6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6AFD7-DF5C-4CA9-9AAA-6EB0DE06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EE887-0DC3-474E-9538-1DF9DB52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1AACB-045E-4954-9A93-6C555CDD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DBE61-405A-4CCB-B642-C9149692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84597-4135-4D50-8DB8-D340A84D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A8E6C5-9B3A-4308-8379-9E6DFAC3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B99606-136F-4827-A5A1-7955962F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EFFCA-277B-46BB-85D8-83EB3FB3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897A47-B0D8-4FD9-BE2A-190C7FB3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935FF-654C-456C-B0C4-10B61BC0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67A9-B785-45D7-96E7-72B6D40A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E4E75-FBE2-4709-90EC-69EFE128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EE6D8-4E52-44B7-90B3-4D4EAF82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079045-E59F-44DE-80BA-7615952A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E741D-FBC8-43BA-9E56-A0C7C7F4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4F9D7-95A0-4892-B75F-BFECDE70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9C19D-4E92-44E9-848A-1F1DA669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9A13D-8301-43F4-9F06-AFB17E6A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B9DDE3-D7DA-4CEC-91D1-E2FCF9BA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D6BBA4-49FD-4335-B648-CC25FB83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23AB2C-3008-4232-A87B-FDA6CA97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3019-CAB8-45CC-98B1-B8526341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4C386A-9896-43EF-AFB3-6FCC93F4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476A05-36C5-4F71-9004-83DB5E55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EFDE7C-6232-4D5A-B305-E3EDE46F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B6FBF5-5BC4-4CB1-A61E-E7960066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3E99C-2938-44A6-8106-CF80FD04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966557-D539-4BEA-BDD5-06C992D2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E31C8-1275-4D21-9988-F078E7F8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7382F6-DEC2-434D-9B04-9565D8E0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4C40C2-4527-4AA4-A63B-7F27EDA7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4BD8-550D-44F4-AB61-B33C5766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0494-77FC-4020-B8C4-18708016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E76D-36B2-49AF-BB75-A7C08B2C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710-44E0-4D17-9BA3-181D8DCC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A398-6252-40E6-A55D-7B27471B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C3BC-0264-434F-AA9E-76FD452B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61F1-947B-4F7C-9B6C-7BC6D629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1BCC-9F8A-4071-9A7D-D8791276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D09C-A3B3-4CEB-B17A-6D878C92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15B0C-9823-44D1-8620-CEE18DDF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188F7-D633-4F52-90EA-BC1909B5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816AA-220D-442D-B0B4-CFF7F197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85F3C-9884-4133-9B34-DE029C33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39881-5F96-4D86-A71D-939E3798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6566-2EB1-471E-81DB-0BF9684E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84A00-FCE2-4B10-B97C-AE651560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6CAD0-4590-49D6-97BD-BA62BED9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61FD6-7E36-4F72-8168-CE4EB93A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C0E8A-77BA-4F26-BF45-40A40EAE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E46C4-3ABC-4AB4-96CC-479C16D2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CBCF5-00FA-4892-940F-E9E9A958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0BEFF-051F-432A-B9C3-CBFEDD43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C1C18-EDE1-486B-952F-FC23B31B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A5A71-5984-46EA-B28C-37B5D311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407F0-EE4D-42DA-81C5-2A52951C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6889-9EBC-4328-B8B1-24D41408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5ECA0-DC33-46CA-8CE2-B1BC9894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C2959-39C5-4B03-A658-139C0D95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F9F68-5001-4D51-8A31-B101F8A1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A61EC-FC64-47DB-8C98-79AF30A5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15943-7AAC-435A-807C-9E0599E3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564A9-8A83-4A17-9D41-C6FE72A7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4698E-DA9D-4C81-A334-C68136E9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C478E-694F-4175-877C-784CA2CF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58F9F-1709-4329-91D1-5AABDDDA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28C6E-EEF1-49BA-83E9-201C31D9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DA8F-FA25-4D55-86B4-A1C5BA4E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13E67-CD06-4421-9E4A-3828511A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66741-BCC2-456C-8186-B0E7AE77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168BE-5730-409F-8BDF-AE7CEEFF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C3815-5DE5-489C-9B71-9A4920A5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9326D-5A22-40BB-9BA6-FC50D692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062C9-81F3-4D00-B3B2-ADF4CD53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0ACF2-4FE2-4022-985E-1A137826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2C5CE-4D55-46B7-B108-E3A1A920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03370-E6EF-4075-A40A-2312A212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C1AD8-E994-4257-832A-7970B1A7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2535-2719-4484-9B6B-AE4A77CB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AD912-FC1A-43D3-9665-2D4447C4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DAD481-8064-4D29-8657-1FD5974A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25411D-138D-4785-A1D3-22446457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C5A54E-1BD9-4E38-AAAA-7AE83EEB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6F19C3-7F97-414D-9915-5A790253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3343D2-6030-438B-85F8-8D1A640A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17C8BE-98E9-4F96-B4C8-E18BC9AD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D2E3B7-D2DF-47F3-AACB-48E51BBD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189423-C842-4F4A-80AB-81239133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2D4435-2599-4122-983C-D52151C6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E02-0AAB-44AC-9A2C-2C621100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499EA0-53FE-4A40-B609-E7F1EB9E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40A26F-E194-4891-B887-A2A3E367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1118A7-6767-4387-B1F3-CC644F0D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56807-5B90-4B4D-ADDB-961787F7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B5FDD-74EC-46C6-8CF1-B7FBFD2E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1949A-3DB2-4D6E-88AE-12575F9D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259FE-2A1B-4B7A-A092-F0E281B9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2FD6C-17EE-41A4-90E5-3FCDBCB9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65752-4091-449C-9D64-88DAF999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F7A8B-DB0B-4E3C-96A0-3449BE2B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351-9FFE-41E3-95F6-085AE668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15E75-96EB-4A73-9551-9C10450F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44580-AB94-40E4-B8E4-876E21AF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BA51F-970A-4775-86D5-4A33E4C2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F236B-596C-4B73-8362-F8A07467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4131F-7207-49A8-A444-F4400833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1085F-2A25-4FD8-A1FE-FC7E895E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D7252-753F-4C6B-BB22-E781B1E9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E1804-01F0-402F-A875-D82E1877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7AA0F-CE31-482E-B35A-DF8D6637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68F57-73E1-4DC0-8219-F09A628F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2A9C-5F5D-44C8-85C1-036732DC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E6586-E1A7-44DF-AD57-00F51EE6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C88AF-4BF2-4B58-B73E-AF3305BF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F7FF4-E976-4C57-B790-A9874A9D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7D215-1844-4B5D-8933-FBDBA47C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14388-F8E1-444E-A164-12C8575E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9192E-65CD-47B3-8AED-73A6E8FA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185F9-F754-440A-AB5F-5AFFD6CB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F001E-4DD8-4898-9DE9-9B43E6E6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F8F2B-536D-4677-AD8E-7615A0CA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DC152-0CBF-4FF3-AE2C-9A9582CD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2D62-2A8C-4A49-8E64-9E002581FB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7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77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2001-F497-48C8-ABD4-4A58E64C36D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1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1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3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9F05-850F-4375-96AF-478CC43245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10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11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25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0681-F30F-4B93-AFFF-19F3FB2AC74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0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09" name="PlaceHolder 1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6675-CEF0-4A91-9E68-076E286C8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333B-ED31-43D5-AA8E-C16FD119BA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C522-E695-4B15-A9CC-46E614EE1A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3BF9-5D8D-46BB-AC6D-91D5FA17F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BB2A-2B03-4D7A-A840-E5CDB6E99F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EEC4-1843-4F8F-B77A-98AA5E0BD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17A3-7E87-4D0C-AA8D-E2C925AE6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76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80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05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B704-A9A9-48A6-9D4D-6EBBE4413CD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54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58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B2B2-BCAC-4DBE-B93C-5CF920A8651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3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F465-1F93-4AD0-9C94-D78F9579E77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Rockwell Condensed"/>
              </a:rPr>
              <a:t>Mi cabaña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Rockwell Condensed"/>
              </a:rPr>
              <a:t>Por Hailey Paolin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98" name="" descr=""/>
          <p:cNvPicPr/>
          <p:nvPr/>
        </p:nvPicPr>
        <p:blipFill>
          <a:blip r:embed="rId1"/>
          <a:stretch/>
        </p:blipFill>
        <p:spPr>
          <a:xfrm>
            <a:off x="2743200" y="3600360"/>
            <a:ext cx="3581280" cy="268308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Rockwell Condensed"/>
              </a:rPr>
              <a:t>El gara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Rockwell Condensed"/>
              </a:rPr>
              <a:t>Es un garaje. El garaje es antiguo pero grand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2571480" cy="342900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Rockwell Condensed"/>
              </a:rPr>
              <a:t>Mi cabaña es estupenda y bella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2"/>
          <a:stretch/>
        </p:blipFill>
        <p:spPr>
          <a:xfrm>
            <a:off x="2438280" y="2604960"/>
            <a:ext cx="4815000" cy="327816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Rockwell Condensed"/>
              </a:rPr>
              <a:t>La coci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Condensed"/>
              </a:rPr>
              <a:t>Es una cocina. La cocina es pequeña y impresiona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>
            <a:off x="533520" y="2895480"/>
            <a:ext cx="4800600" cy="336888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 Condensed"/>
              </a:rPr>
              <a:t>El come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Rockwell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Condensed"/>
              </a:rPr>
              <a:t>Es un comedor. El comedor es bonito y lujos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2"/>
          <a:stretch/>
        </p:blipFill>
        <p:spPr>
          <a:xfrm>
            <a:off x="3733920" y="3200400"/>
            <a:ext cx="3886200" cy="290988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Rockwell Condensed"/>
              </a:rPr>
              <a:t>La sal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Condensed"/>
                <a:ea typeface="Tahoma"/>
              </a:rPr>
              <a:t>Es una sala. ¡</a:t>
            </a:r>
            <a:r>
              <a:rPr b="0" lang="en-US" sz="3200" spc="-1" strike="noStrike">
                <a:solidFill>
                  <a:srgbClr val="ffffff"/>
                </a:solidFill>
                <a:latin typeface="Rockwell Condensed"/>
              </a:rPr>
              <a:t>La sala es fabulosa y magnific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9" name="" descr=""/>
          <p:cNvPicPr/>
          <p:nvPr/>
        </p:nvPicPr>
        <p:blipFill>
          <a:blip r:embed="rId1"/>
          <a:stretch/>
        </p:blipFill>
        <p:spPr>
          <a:xfrm>
            <a:off x="2895480" y="2995560"/>
            <a:ext cx="4577040" cy="308448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Rockwell Condensed"/>
              </a:rPr>
              <a:t>El bañ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Condensed"/>
              </a:rPr>
              <a:t>Es un baño. El baño es peuqeño pero impresionant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2" name="" descr=""/>
          <p:cNvPicPr/>
          <p:nvPr/>
        </p:nvPicPr>
        <p:blipFill>
          <a:blip r:embed="rId1"/>
          <a:stretch/>
        </p:blipFill>
        <p:spPr>
          <a:xfrm>
            <a:off x="3809880" y="2590920"/>
            <a:ext cx="4038840" cy="327816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 cuar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s un cuarto. El cuarto es grande y nuev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4762800" cy="315756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Rockwell Condensed"/>
              </a:rPr>
              <a:t>El pat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Condensed"/>
              </a:rPr>
              <a:t>Es un patio. El patio es nuevo , estupendo, y bonit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8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4967280" cy="330516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Rockwell Condensed"/>
              </a:rPr>
              <a:t>El jardi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Condensed"/>
              </a:rPr>
              <a:t>Es un jardin. El jardin es increible y impresiona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4357440" cy="290052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47:21Z</dcterms:created>
  <dc:creator>paolinihai</dc:creator>
  <dc:description/>
  <dc:language>en-US</dc:language>
  <cp:lastModifiedBy>paolinihai</cp:lastModifiedBy>
  <dcterms:modified xsi:type="dcterms:W3CDTF">2012-10-25T18:07:32Z</dcterms:modified>
  <cp:revision>8</cp:revision>
  <dc:subject/>
  <dc:title>Mi cabana Por Hailey Paolini</dc:title>
</cp:coreProperties>
</file>